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3AEE-8B48-41D2-B099-6F379F4C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6B3F-F08B-4DA0-BDEF-4B3C0E2E4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25FA-A98E-4CB4-ABC9-EE4AE5762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2C9-247D-4386-A896-0BBB46F0A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2A5FAF-80ED-4E1C-82A8-5097D47A6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CE9023-937A-41C5-BB37-D1D05688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8ABE0-2255-4E73-A34B-FD4DCF0A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F25ECF-1680-4BDD-8834-8B587C92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F5643-A9A5-4E57-8EA7-AF24C50A7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7CD237-B4A4-4986-AAA4-065BC88C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5CD64-B079-42CF-85EB-BAA9DC1B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02D3-D61B-4ABA-9CA3-F75B68CC8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28E36-1C22-4A85-B3E1-6269505B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CFA9FE-1404-4459-A9CA-3B027BF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D0A07A-9371-4A8C-9271-5B2FAAB0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7960A-8AE8-4E9D-9FFB-9E6BE9AA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47BD6-A58E-436D-A761-AABF82894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F1E-385A-473B-B9C3-AE9C2065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864C-76D6-4758-8A12-B2E9993B4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4782-7588-4A24-AEA5-C5E105C5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506F-2299-4F4C-A386-8896D2F08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277-6544-4990-A4E2-B64E6A0E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AD9-C45D-4694-A10C-88C8BD07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AED6-9ED0-45F8-8F42-E57A2E72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3DCF1-8E1F-43CD-B5B2-FB62BE3A5D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D1D0A-EFDC-46CB-8F01-49E7B75D7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karta.apache.org/jmeter/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3.org/Protocols/rfc2616/rfc2616-sec10.html" TargetMode="External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karta.apache.org/" TargetMode="External"/><Relationship Id="rId3" Type="http://schemas.openxmlformats.org/officeDocument/2006/relationships/hyperlink" Target="http://jakarta.apache.org/" TargetMode="External"/><Relationship Id="rId4" Type="http://schemas.openxmlformats.org/officeDocument/2006/relationships/hyperlink" Target="http://jakarta.apache.org/" TargetMode="Externa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jakarta.apache.org/jmeter/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chnelleinstieg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pache JMet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763640" y="6308640"/>
            <a:ext cx="7193160" cy="4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New Trends in IT – WS06/07 – 04BIM - Thorsten He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JMet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08360" y="3860640"/>
            <a:ext cx="2104920" cy="9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Zwei Controller Typ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amp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enden Anfragen an einen Ser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TP, HTTP, JDBC, LDAP, SOAP, 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ogical 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ogische Steuerung der Serveranfra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Only Once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Random Or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ufzeichnen von Requests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Recording Contro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7ADF-F24A-4048-85D5-B774E2094E5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Listener and Tim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istener - „Lauscher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ammeln Informationen der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ls Graph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Graph Res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Gesendete Anfragen und deren Antworten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View Results Tre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rgebnis von Prüfungen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Assertion Res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Gültig für gleiche Ebene und darun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Verzögerung zwischen Requ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Constant Timer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Random Tim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6FB3-17A5-454A-A085-C6C77F232A8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Assertions und Config. Elemen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Prüfen der Antworten eines Servers (Debugg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 Status Codes: 200 = O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w3.org/Protocols/rfc2616/rfc2616-sec10.htm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ext Auswertungen: „falsches Passwort“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Configuration Ele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ingabedateien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CSV Data Set Confi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ervername, Port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HTTP Request Defa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Cookies akzeptieren: </a:t>
            </a:r>
            <a:r>
              <a:rPr b="0" i="1" lang="de-DE" sz="2400" spc="-1" strike="noStrike">
                <a:solidFill>
                  <a:srgbClr val="ffcc00"/>
                </a:solidFill>
                <a:latin typeface="Tahoma"/>
              </a:rPr>
              <a:t>HTTP Cookie Manag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A477-9CC6-45B7-B51D-5C5DE4A2DB8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Aufzeichnen von HTTP Anfra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Workbench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Non Test Elements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de-DE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HTTP Prox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ort einstellen, z.B. 999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roxy im Browser konfigurieren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ocalhost:999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Filter von Anfragen mit Regulären Ausdrüc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Grafiken und Stylesheets ( .\.css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Checkbox „RegExp“ aktiv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Uniform Random Timer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unterhalb des Prox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aximum milliseconds count: ${T}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060D-B149-424D-8EAB-6CD2959B178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Aufzeichnen von HTTP Anfra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ffcc00"/>
                </a:solidFill>
                <a:latin typeface="Tahoma"/>
              </a:rPr>
              <a:t>Recording Controller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 in den Testplan einfüg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Proxy starten und Anfragen durchführ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Timer der aufgezeichneten Anfragen anpass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ffffff"/>
                </a:solidFill>
                <a:uFillTx/>
                <a:latin typeface="Tahoma"/>
              </a:rPr>
              <a:t>Achtung Workbench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: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3200" spc="-1" strike="noStrike">
                <a:solidFill>
                  <a:srgbClr val="ffffff"/>
                </a:solidFill>
                <a:latin typeface="Tahoma"/>
              </a:rPr>
              <a:t>Proxy in den Testplan verschieb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59E-B26C-4D33-A878-15E475B1344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Tests mit dynamischen Da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CSV Datei mit Anmeldeinformationen erstellen</a:t>
            </a:r>
            <a:br>
              <a:rPr sz="2800"/>
            </a:b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testuser,testpasswor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nmeldung aufzeichnen (</a:t>
            </a: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HTTP Proxy Server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CSV Data Set Config</a:t>
            </a: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  in die </a:t>
            </a:r>
            <a:r>
              <a:rPr b="0" i="1" lang="de-DE" sz="2800" spc="-1" strike="noStrike">
                <a:solidFill>
                  <a:srgbClr val="ffcc00"/>
                </a:solidFill>
                <a:latin typeface="Tahoma"/>
              </a:rPr>
              <a:t>Thread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ateinamen und Dateiformat angeben: </a:t>
            </a:r>
            <a:r>
              <a:rPr b="0" lang="de-DE" sz="2400" spc="-1" strike="noStrike">
                <a:solidFill>
                  <a:srgbClr val="ffffff"/>
                </a:solidFill>
                <a:latin typeface="Courier New"/>
              </a:rPr>
              <a:t>USER,PA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03280" y="4797360"/>
            <a:ext cx="6048360" cy="182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DF89-DC49-456C-800F-ECD20AE285D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Tests mit dynamischen Da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684360" y="1989000"/>
            <a:ext cx="7848360" cy="32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erte im Anmelderequest mit den Variablen ersetze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Listener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View Results Tre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Summary Repor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58920" y="3068640"/>
            <a:ext cx="7010280" cy="116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323-D5C6-4931-AA10-D4172C932D6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Tests mit dynamischen Dat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8642160" cy="5156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635280" y="4581360"/>
            <a:ext cx="4969080" cy="71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1F66-1194-4541-8D87-E02A5ED3CCC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Live Demo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infacher Aufruf einer HTTP Sei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ufzeichnen einer Anmeldung im eStudy Por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Nutzung einer CSV-Eingabedatei für Benutzernamen und Passw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bspielen eines Testsplans mit Aufzeichnung von Da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77D3-5FFA-49F0-AD05-939D2E15316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Fazi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Bedienung nicht sehr intuiti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Interpretation der Ergebnisse schwieri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Graphen nicht wirklich „hübsch“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Vielleicht lohnt es, sich Open STA als Alternative anzuschauen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iki-Artikel bei eStud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s://wiki.estudy-portal.de/index.php/JMe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BAE7-5EB3-489B-BA75-78A2FC74190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nhal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as ist JMeter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Systemvoraussetzung, Instal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lemente eines Testpl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eb-Anfragen aufzeichn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ests mit dynamischen Da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ive Demo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Faz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13B8-EF2A-4EBE-B8DB-937278FD1AE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Quell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JMeter Homepage und User Manual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jakarta.apache.org/jmeter/ [Zugriff am 16.1.06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jakarta.apache.org/jmeter/usermanual/index.html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[Zugriff am 16.1.06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nformit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www.informit.com/guides/content.asp?g=java&amp;seqNum=268&amp;rl=1 [7.7.06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ikip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de.wikipedia.org/w/index.php?title=JMeter&amp;oldid=25323224 [19.12.06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http://en.wikipedia.org/w/index.php?title=JMeter&amp;oldid=91500470 [2.12.06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3638-D52B-4EF7-BA6F-48D27102283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3B00-1933-4E41-85FD-790A88226305}" type="slidenum">
              <a:t>21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Der Apache JMeter ist ein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erkzeug fü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asttests (Anwortzeitverhalt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unktions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von Client/Server-Anwendun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HTTP, HTTPS, FTP, SOAP, Java Servlets, CGI Scrip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JDBC (Java Database Connectivit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JNDI (Java Naming and Directory Interfac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Tahoma"/>
              </a:rPr>
              <a:t>LDAP (Lightweight Directory Access Protocol), DNS (Domain Name System), NIS (Network Information Service), CORBA, Dateisyste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eitere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0C52-ED85-48C3-8CC8-CAA49EDDDFEC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Entstehungsgeschicht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rste Version von Stefano Mazzocch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asttests für Apache JServ (später Tom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Weiterentwickelt vom Apache Jakarta Proje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GUI, Funktions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Das Apache Jakarta Projek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</a:t>
            </a:r>
            <a:r>
              <a:rPr b="0" lang="de-DE" sz="2400" spc="-1" strike="noStrike" u="sng">
                <a:solidFill>
                  <a:srgbClr val="ffcc00"/>
                </a:solidFill>
                <a:uFillTx/>
                <a:latin typeface="Tahoma"/>
                <a:hlinkClick r:id="rId3"/>
              </a:rPr>
              <a:t>jakarta.apache.org</a:t>
            </a:r>
            <a:r>
              <a:rPr b="0" lang="de-DE" sz="2400" spc="-1" strike="noStrike" u="sng">
                <a:solidFill>
                  <a:srgbClr val="ffcc00"/>
                </a:solidFill>
                <a:uFillTx/>
                <a:latin typeface="Tahoma"/>
                <a:hlinkClick r:id="rId4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Open Source Java-Lösu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0299-C257-47A7-9F6A-F9797013BE0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Voraussetzunge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JMeter ist eine Java Anwendu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Java Development Kit (JDK) &gt; Verision 1.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Empfehlung &gt; Version 1.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Unterstützte Betriebssystem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Unix (Solaris, Linux, …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indows (98, NT, 2000, XP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OpenVMS Alpha 7.3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319E-0CCC-47F0-B6A2-DA3F40F3310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Installation und Ausführu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Download von http://jakarta.apache.org/jmeter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jakarta.apache.org/jmeter/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Keinen Pfad mit Leerzeichen verwende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Besser englisches OS verwende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usführu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GUI: JMETER.BAT (Windows) bzw. jmeter (Unix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Non-GUI Mode (nicht interaktiv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Server Mode (verteilte Test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45A-B059-48B0-BFBF-84D5F2FACF9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Die GU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7280" y="1413000"/>
            <a:ext cx="6324480" cy="52578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748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Testpl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Workbench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(Zwischen-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blag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46C-7AD5-4479-BD44-467978D5421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Testplan und Thread Group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estplan ist hierarchisch aufgebau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hread Group: Oberste Eb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Gruppiert die Elemente eines Testpla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Einstellungen Thread Group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nzahl Threa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„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Ramp-up Period“: Zeit bis alle Threads lauf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10 Threads, Ramp-up 100 </a:t>
            </a:r>
            <a:r>
              <a:rPr b="0" lang="de-DE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de-DE" sz="2000" spc="-1" strike="noStrike">
                <a:solidFill>
                  <a:srgbClr val="ffffff"/>
                </a:solidFill>
                <a:latin typeface="Tahoma"/>
              </a:rPr>
              <a:t> Alle 10 Sekunden 1 Thre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Anzahl Wiederholun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ACD6-9891-4B93-9F14-539F645CC12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ahoma"/>
              </a:rPr>
              <a:t>Bestandteile eines Testpla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Controll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Samp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Logical Controll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Listener („Lauscher“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Tim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Configuration Ele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re-Processor Ele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Tahoma"/>
              </a:rPr>
              <a:t>Post-Processor Ele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0BD-67D7-4058-960E-103DF4B78CF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7T07:33:27Z</dcterms:created>
  <dc:creator>Thorsten Heil</dc:creator>
  <dc:description/>
  <dc:language>en-US</dc:language>
  <cp:lastModifiedBy>Thorsten Heil</cp:lastModifiedBy>
  <dcterms:modified xsi:type="dcterms:W3CDTF">2007-01-24T15:44:55Z</dcterms:modified>
  <cp:revision>51</cp:revision>
  <dc:subject/>
  <dc:title>Informierte Suche und Explo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